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logos/pathos/etho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gerian logic is different from Aristotelian argumentation (pathos, logos, ethos), as it is not adversarial by natur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tempts to find a compromise between the two sid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ceeds in phases/step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me people find Rogerian argument frustrating, especially if they favor contention and agonistic debat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Rogerian argument, it is of critical importance to understand the rhetorical situation and audien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gerian argument is particularly useful for reducing conflict when two sides express hostility toward each other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merican psychologist Carl R. Roger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nciples of communication” - a form of discussion based on finding common groun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gers was well known for encouraging people to improve their communication and conflict-resolution skills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gers suggests that individuals listen to their opponent's position in an attempt to gain a better understanding not only of his opponent's position, but also of his own point of view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standing an adversary's position by listening to an adversary’s posi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voidance of adopting a point of view without considering the content of the opposi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689292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6892920"/>
            <a:ext cx="5106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6892920"/>
            <a:ext cx="336960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6847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7172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5836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45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31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31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31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332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0000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4668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9336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177480"/>
            <a:ext cx="1046484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0956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154160" indent="-4939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598760" indent="-4939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204300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48760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48760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48760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05040"/>
            <a:ext cx="396252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6116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988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3896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2768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1676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1676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1676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332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0000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4668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9336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1640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21040" indent="-5202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25320" indent="-5202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2960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3424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3424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3424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1640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21040" indent="-5202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25320" indent="-5202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2960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3424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3424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3424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332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0000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4668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9336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269720" y="177480"/>
            <a:ext cx="1046484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0956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15416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59876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20430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4876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4876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4876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7772040" y="2705040"/>
            <a:ext cx="396252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611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988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389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2768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332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0000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4668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9336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6847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7172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5836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45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485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82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485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82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“</a:t>
            </a:r>
            <a:r>
              <a:rPr b="0" lang="en-US" sz="50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Rogerian argument is a conflict solving technique based on finding common ground instead of polarizing debate.”</a:t>
            </a:r>
            <a:endParaRPr b="0" lang="en-US" sz="5000" spc="-1" strike="noStrike">
              <a:solidFill>
                <a:srgbClr val="ffffff"/>
              </a:solidFill>
              <a:latin typeface="Gill Sans"/>
            </a:endParaRPr>
          </a:p>
          <a:p>
            <a:pPr indent="0" algn="r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- Wikipedia</a:t>
            </a:r>
            <a:endParaRPr b="0" lang="en-US" sz="5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269720" y="3174840"/>
            <a:ext cx="10464840" cy="339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Rogerian argumentation </a:t>
            </a:r>
            <a:br>
              <a:rPr sz="6900"/>
            </a:br>
            <a:r>
              <a:rPr b="0" lang="en-US" sz="69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≠</a:t>
            </a:r>
            <a:br>
              <a:rPr sz="6900"/>
            </a:br>
            <a:r>
              <a:rPr b="0" lang="en-US" sz="69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Aristototelian argumentation </a:t>
            </a:r>
            <a:endParaRPr b="0" lang="en-US" sz="69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69720" y="4343040"/>
            <a:ext cx="1046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compromis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69720" y="4191120"/>
            <a:ext cx="10464840" cy="135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How Do I Use It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269720" y="4229280"/>
            <a:ext cx="10464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step by step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269720" y="4229280"/>
            <a:ext cx="10464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1: State the issu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2: Clarify the opponent’s posit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69720" y="2971800"/>
            <a:ext cx="10464840" cy="379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3: Concede to the validities of the opponent’s position 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69720" y="1765440"/>
            <a:ext cx="10464840" cy="621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4: Demonstrate how the opponent’s position would be improved if your position were to be accepted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269720" y="4241880"/>
            <a:ext cx="10464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It Can’t Be </a:t>
            </a:r>
            <a:r>
              <a:rPr b="0" i="1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All</a:t>
            </a: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 Good..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269720" y="4254120"/>
            <a:ext cx="10464840" cy="124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frustrat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69720" y="4229280"/>
            <a:ext cx="10464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Origi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269720" y="4229280"/>
            <a:ext cx="10464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understand the situat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69720" y="4241880"/>
            <a:ext cx="10464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It Can’t Be All</a:t>
            </a:r>
            <a:r>
              <a:rPr b="0" i="1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 Bad</a:t>
            </a: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..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lets opponent know he or she has been heard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269720" y="4241880"/>
            <a:ext cx="10464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reduces conflic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269720" y="365724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(standing </a:t>
            </a:r>
            <a:br>
              <a:rPr sz="8400"/>
            </a:br>
            <a:r>
              <a:rPr b="0" i="1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ovation)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450880" y="-360"/>
            <a:ext cx="10464840" cy="521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Carl Roger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2450880" y="530820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1902-1987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1511280" y="2793960"/>
            <a:ext cx="2857680" cy="4165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269720" y="4229280"/>
            <a:ext cx="10464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But What Is It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269720" y="3581280"/>
            <a:ext cx="104648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moving away from a combative stanc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69720" y="4216320"/>
            <a:ext cx="10464840" cy="130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listen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69720" y="4203720"/>
            <a:ext cx="10464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finding common ground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269720" y="3606840"/>
            <a:ext cx="10464840" cy="252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considering the content of the opposit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269720" y="3009960"/>
            <a:ext cx="1046484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Light"/>
                <a:ea typeface="Gill Sans Light"/>
              </a:rPr>
              <a:t>How Does It Compare To Other Forms of Argumentation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